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F01-3180-4E6F-BFF2-1422C876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B0C-4FA9-4658-AF88-696ECCC0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8E71-CF22-4673-AE60-9632A5C4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797-7833-457C-AED3-CA2E0622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CEE-8DD5-43B6-B8A4-4B46B199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AA8-C3DC-409F-8354-AC50BABC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24F6-1857-469B-AD42-081CF6D0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C9EF-563D-4DDB-9B92-4E682C90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54E-A350-46DF-AC5A-6687C668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505-C5B3-40A7-8B0D-F7E054C5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A61F-561C-4667-ABCB-0550A5B8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3F4B-DC0F-48CD-AF36-FE1934CF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6A52-B9F6-4AC6-A01C-187551C57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es Mathématiques</a:t>
            </a: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7600" y="3886200"/>
            <a:ext cx="18064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es mathémat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a réponse d’une addition est </a:t>
            </a:r>
            <a:r>
              <a:rPr b="1" lang="fr-CA" sz="3200" spc="-1" strike="noStrike" u="sng">
                <a:solidFill>
                  <a:srgbClr val="000000"/>
                </a:solidFill>
                <a:uFillTx/>
                <a:latin typeface="Comic Sans MS"/>
              </a:rPr>
              <a:t>la somme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a réponse d’une soustraction est </a:t>
            </a:r>
            <a:r>
              <a:rPr b="1" lang="fr-CA" sz="3200" spc="-1" strike="noStrike" u="sng">
                <a:solidFill>
                  <a:srgbClr val="000000"/>
                </a:solidFill>
                <a:uFillTx/>
                <a:latin typeface="Comic Sans MS"/>
              </a:rPr>
              <a:t>la diffé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a réponse d’une multiplication est </a:t>
            </a:r>
            <a:r>
              <a:rPr b="1" lang="fr-CA" sz="3200" spc="-1" strike="noStrike" u="sng">
                <a:solidFill>
                  <a:srgbClr val="000000"/>
                </a:solidFill>
                <a:uFillTx/>
                <a:latin typeface="Comic Sans MS"/>
              </a:rPr>
              <a:t>le produ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La réponse d’une division est </a:t>
            </a:r>
            <a:r>
              <a:rPr b="1" lang="fr-CA" sz="3200" spc="-1" strike="noStrike" u="sng">
                <a:solidFill>
                  <a:srgbClr val="000000"/>
                </a:solidFill>
                <a:uFillTx/>
                <a:latin typeface="Comic Sans MS"/>
              </a:rPr>
              <a:t>le quotient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29000" y="48006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a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1x1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1x2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1x3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1x4= 4…continue jusqu’à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29000" y="4495680"/>
            <a:ext cx="1747800" cy="16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a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2x1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2x2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2x3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2x4= 8…continue jusqu' ’à 10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05320" y="419112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1:09:14Z</dcterms:created>
  <dc:creator>nbdoe</dc:creator>
  <dc:description/>
  <dc:language>en-US</dc:language>
  <cp:lastModifiedBy>nbdoe</cp:lastModifiedBy>
  <dcterms:modified xsi:type="dcterms:W3CDTF">2008-09-26T13:22:04Z</dcterms:modified>
  <cp:revision>3</cp:revision>
  <dc:subject/>
  <dc:title>Les Mathématiques!!</dc:title>
</cp:coreProperties>
</file>